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DB5-719D-4091-AA30-F6FE93B6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720-F026-4955-9F50-372C2CEF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67E-F3F1-45C8-90D8-62999C3E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103-03F8-41D6-9A97-DE13B1B5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AF7-85F6-4402-B6B0-ABE724A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74B-DDCE-4DA1-A86A-C7194B53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F88-F4A2-4DD2-A63F-9ACABA39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813-9CE3-43D8-9971-FA28A2A4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052-E5D3-4495-B4BF-5E84A6E0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2B6-0618-4CDA-AE05-228538E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A0C-E79A-48F5-8E97-2A84903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99B-2BA2-4753-9A62-031961E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907-7635-4564-8A5B-7F2739D40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Roo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ages 578; 584 - 5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029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How old is the tree to the right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2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 In which year were the climatic conditions poor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7</a:t>
            </a:r>
            <a:r>
              <a:rPr b="0" lang="en-US" sz="36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th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year (narrow 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33526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.  Is there any place were tree rings would not be produced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Where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opical areas have a constant climate therefore there is no real “growing seas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unctions of Root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.  anchor plants to s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 absorb water and nutr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.  store nutrients (in some plants such as carrots, beets, and radish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Root Adaptation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4920" y="3413160"/>
            <a:ext cx="8229600" cy="2472120"/>
            <a:chOff x="304920" y="3413160"/>
            <a:chExt cx="8229600" cy="2472120"/>
          </a:xfrm>
        </p:grpSpPr>
        <p:sp>
          <p:nvSpPr>
            <p:cNvPr id="48" name=""/>
            <p:cNvSpPr/>
            <p:nvPr/>
          </p:nvSpPr>
          <p:spPr>
            <a:xfrm>
              <a:off x="914400" y="5257800"/>
              <a:ext cx="5334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away by heavy rai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4648320"/>
              <a:ext cx="7620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ground; prevents soil from being washed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4022640"/>
              <a:ext cx="7543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sizes that do not grow very deep into the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3413160"/>
              <a:ext cx="77724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2.  </a:t>
              </a: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fibrous roots</a:t>
              </a: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 – many roots of simila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04920" y="1676520"/>
            <a:ext cx="8305560" cy="1236960"/>
            <a:chOff x="304920" y="1676520"/>
            <a:chExt cx="8305560" cy="1236960"/>
          </a:xfrm>
        </p:grpSpPr>
        <p:sp>
          <p:nvSpPr>
            <p:cNvPr id="53" name=""/>
            <p:cNvSpPr/>
            <p:nvPr/>
          </p:nvSpPr>
          <p:spPr>
            <a:xfrm>
              <a:off x="304920" y="1676520"/>
              <a:ext cx="8305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1.  </a:t>
              </a: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taproots</a:t>
              </a: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 – one long, thick root that ca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2286000"/>
              <a:ext cx="7696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reach water far below the Earth’s surface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Root Adaptation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4920" y="1676520"/>
            <a:ext cx="8305560" cy="1999080"/>
            <a:chOff x="304920" y="1676520"/>
            <a:chExt cx="8305560" cy="1999080"/>
          </a:xfrm>
        </p:grpSpPr>
        <p:sp>
          <p:nvSpPr>
            <p:cNvPr id="57" name=""/>
            <p:cNvSpPr/>
            <p:nvPr/>
          </p:nvSpPr>
          <p:spPr>
            <a:xfrm>
              <a:off x="304920" y="1676520"/>
              <a:ext cx="8305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3.  </a:t>
              </a: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root hairs</a:t>
              </a: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 - increase the surface area of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3048120"/>
              <a:ext cx="5562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more water and nutrient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2362320"/>
              <a:ext cx="7543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the root allowing the root to absorb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54416" b="22305"/>
          <a:stretch/>
        </p:blipFill>
        <p:spPr>
          <a:xfrm>
            <a:off x="1600200" y="990720"/>
            <a:ext cx="6248520" cy="444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4648320"/>
            <a:ext cx="17002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</a:rPr>
              <a:t>taproo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724280"/>
            <a:ext cx="15447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</a:rPr>
              <a:t>fibro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71800" y="380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685800"/>
            <a:ext cx="2786040" cy="50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5410080" y="1752480"/>
            <a:ext cx="38124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1447920"/>
            <a:ext cx="2133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oot hai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95680" y="837720"/>
            <a:ext cx="106704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533520"/>
            <a:ext cx="19047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19720" y="66528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286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56386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</a:rPr>
              <a:t>root (magnified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ages 578; 589 - 5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unctions of Stem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400560"/>
            <a:ext cx="7696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 supports leaves, flowers, &amp; frui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09480" y="1371600"/>
            <a:ext cx="7696440" cy="1923120"/>
            <a:chOff x="609480" y="1371600"/>
            <a:chExt cx="7696440" cy="1923120"/>
          </a:xfrm>
        </p:grpSpPr>
        <p:sp>
          <p:nvSpPr>
            <p:cNvPr id="77" name=""/>
            <p:cNvSpPr/>
            <p:nvPr/>
          </p:nvSpPr>
          <p:spPr>
            <a:xfrm>
              <a:off x="1219320" y="2667240"/>
              <a:ext cx="68580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the roots and leave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9320" y="2057400"/>
              <a:ext cx="70866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that transport substances betwee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480" y="1371600"/>
              <a:ext cx="72392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1.  contain vascular tissues (veins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9480" y="5429160"/>
            <a:ext cx="7391520" cy="1137240"/>
            <a:chOff x="609480" y="5429160"/>
            <a:chExt cx="7391520" cy="1137240"/>
          </a:xfrm>
        </p:grpSpPr>
        <p:sp>
          <p:nvSpPr>
            <p:cNvPr id="81" name=""/>
            <p:cNvSpPr/>
            <p:nvPr/>
          </p:nvSpPr>
          <p:spPr>
            <a:xfrm>
              <a:off x="609480" y="5429160"/>
              <a:ext cx="7391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4.  stores nutrients (in some plant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9320" y="5938920"/>
              <a:ext cx="490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such as potatoes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93640" y="4194000"/>
            <a:ext cx="7391520" cy="1269000"/>
            <a:chOff x="593640" y="4194000"/>
            <a:chExt cx="7391520" cy="1269000"/>
          </a:xfrm>
        </p:grpSpPr>
        <p:sp>
          <p:nvSpPr>
            <p:cNvPr id="84" name=""/>
            <p:cNvSpPr/>
            <p:nvPr/>
          </p:nvSpPr>
          <p:spPr>
            <a:xfrm>
              <a:off x="593640" y="4194000"/>
              <a:ext cx="7391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  <a:ea typeface="Times New Roman"/>
                </a:rPr>
                <a:t>3.  photosynthetic (in some plants such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4835520"/>
              <a:ext cx="52689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as cactus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48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drochron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e study of annual rings in tre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end of each growing season, the older xylem cells near the center of the stem (trunk) no longer functions and becomes darker in color because it accumulates impurities; this can often be observed as tree rings.  Not only can the tree rings determine the age of a tree but they can also help determine past climates.  A wide ring indicates a good growing season whereas a narrow ring indicates a year in which climatic conditions were poor (little rain or colder than normal temperatur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20:19:15Z</dcterms:created>
  <dc:creator>Plano ISD</dc:creator>
  <dc:description/>
  <dc:language>en-US</dc:language>
  <cp:lastModifiedBy>Plano ISD</cp:lastModifiedBy>
  <dcterms:modified xsi:type="dcterms:W3CDTF">2005-02-21T14:41:35Z</dcterms:modified>
  <cp:revision>8</cp:revision>
  <dc:subject/>
  <dc:title>Roots &amp; Stems</dc:title>
</cp:coreProperties>
</file>